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15A-8C38-4E4C-8F88-14C874A8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3EE-7F59-4182-87E3-1A782BA2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3AC-07B8-4890-A05C-B6859231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12D-0F94-40C4-9DA4-72CE5FAF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6B4-62F1-40C7-8073-283B0BEE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ADF-9B07-4127-8E74-7D2224E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054-81B5-41B5-9B44-A50676D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3B6-0D4C-4CB7-831D-684F72D5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986-5BAC-4210-BE1D-C844A968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89E-D639-4A8B-9476-3CC487E9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88B-1253-486F-B752-6768728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E83-A872-4714-A006-4601D50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4ECA-7489-45A4-B8CD-EBEA15999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080" y="2565360"/>
            <a:ext cx="79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om Heaven You Came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71808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From Heaven you came,</a:t>
            </a:r>
            <a:r>
              <a:rPr b="1" lang="pl-PL" sz="4000" spc="-1" strike="noStrike">
                <a:solidFill>
                  <a:srgbClr val="ff0000"/>
                </a:solidFill>
                <a:latin typeface="Baskerville Old Face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elpless bab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Entered our world, Your glory veile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Not to be served but to serv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And give Your life that we might l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2279160" y="2225520"/>
            <a:ext cx="7306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is is our Go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e calls us now to follow Hi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o bring ou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As a daily off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Of worship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.</a:t>
            </a:r>
            <a:r>
              <a:rPr b="0" lang="pl-PL" sz="4000" spc="-1" strike="noStrike">
                <a:solidFill>
                  <a:srgbClr val="ff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80" y="4038480"/>
            <a:ext cx="91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re in the garden o t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My heavy load He chose to bea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is heart with sorrow was tor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Yet not My will but Yours,’ He said.</a:t>
            </a:r>
            <a:r>
              <a:rPr b="0" lang="pl-PL" sz="2400" spc="-1" strike="noStrike">
                <a:solidFill>
                  <a:srgbClr val="ff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2355480" y="2073240"/>
            <a:ext cx="7306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is is our Go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e calls us now to follow Hi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o bring ou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As a daily off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Of worship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4000" y="4076640"/>
            <a:ext cx="8597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Come see His hands and His fee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cars that speak of sacrifice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ands that flung stars into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o cruel nails surrendered.</a:t>
            </a:r>
            <a:r>
              <a:rPr b="1" lang="pl-PL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2036160" y="2205000"/>
            <a:ext cx="7306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is is our Go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e calls us now to follow Hi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o bring ou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As a daily off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Of worship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07680" y="3962520"/>
            <a:ext cx="792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So let us learn how to ser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And in our lives enthrone Him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Each other’s need to pref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For it is Christ  we’re serving.</a:t>
            </a:r>
            <a:r>
              <a:rPr b="1" lang="pl-PL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2036160" y="2205000"/>
            <a:ext cx="7306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is is our Go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He calls us now to follow Hi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o bring ou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As a daily off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[: </a:t>
            </a: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Of worship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The Servant King.</a:t>
            </a:r>
            <a:r>
              <a:rPr b="0" lang="pl-PL" sz="40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49:30Z</dcterms:created>
  <dc:creator>TrifonTrifonow</dc:creator>
  <dc:description/>
  <dc:language>en-US</dc:language>
  <cp:lastModifiedBy>TrifonTrifonow</cp:lastModifiedBy>
  <dcterms:modified xsi:type="dcterms:W3CDTF">2005-12-28T05:49:51Z</dcterms:modified>
  <cp:revision>1</cp:revision>
  <dc:subject/>
  <dc:title>Slide 1</dc:title>
</cp:coreProperties>
</file>